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6.jpeg" ContentType="image/jpeg"/>
  <Override PartName="/ppt/media/image27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A2D-A4AA-4922-B00F-5B506D86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ADCF-B1A3-4C81-B47D-735165C7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94C-3648-44C3-A471-8D2DBE8D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D13-4B4F-4772-AFA8-E99FD075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8E37-D10F-4D8C-8699-E0DD28BF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7F5E-9A07-4440-B973-E129ADBB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67E2-F121-4E3A-95BF-B7862129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7633-93DF-4411-921F-520D9A63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6039-D139-42C6-B475-02BFAB9F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6A01-8403-4070-B013-C405723F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0A9A-BA70-4CEE-86A8-F20DFF07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FDB3-4513-40DF-AB75-4B70AABB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F36F-5CB2-4ACF-8EC1-DB345C2E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FC2F-4C2E-4084-A02E-FE0D7FC0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3A04-64E2-4449-B351-63814167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F388-70FA-4051-A977-FDA2756A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67A5-2C30-40C7-821C-59DA3C89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59F-3982-48D7-8626-3C9FA8B7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8D4-2D3A-4267-B978-C8FBF1AB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1B0-2FF8-4159-B76F-5AB4ECAA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5D5-8131-4497-B79A-D0897414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1DDF-52B7-440F-A727-2FE50C5D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010-FD00-4787-B9CE-A61CFB09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03DB-A33D-41BF-BE32-EEFE9D0E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EE54-E910-46D2-8DE6-8FFF12E1E3EE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8E02-C24B-4792-B3EF-FC7538309504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103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ocabulary Wo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Ian M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Greek City-Stat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4" name="Picture 5" descr="http://t1.gstatic.com/images?q=tbn:ANd9GcT3-tmxDrwguqaPSYhdSFkrHURfz5GcjRbxeddJEBW2LtAAaBma"/>
          <p:cNvPicPr/>
          <p:nvPr/>
        </p:nvPicPr>
        <p:blipFill>
          <a:blip r:embed="rId2"/>
          <a:stretch/>
        </p:blipFill>
        <p:spPr>
          <a:xfrm>
            <a:off x="2286000" y="2633760"/>
            <a:ext cx="45720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study of Wisdom and the right way to liv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63360" y="-87624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63360" y="-85248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63360" y="-85248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63360" y="-87624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63360" y="-85248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5"/>
          <p:cNvSpPr/>
          <p:nvPr/>
        </p:nvSpPr>
        <p:spPr>
          <a:xfrm>
            <a:off x="63360" y="-85248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63360" y="-85248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9"/>
          <p:cNvSpPr/>
          <p:nvPr/>
        </p:nvSpPr>
        <p:spPr>
          <a:xfrm>
            <a:off x="63360" y="-87624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1" descr="http://t2.gstatic.com/images?q=tbn:ANd9GcRY6JxGqPTTGFrIdvGYZpglhS3uQMkahAKsk1eFdoyHbyGbYtE6"/>
          <p:cNvPicPr/>
          <p:nvPr/>
        </p:nvPicPr>
        <p:blipFill>
          <a:blip r:embed="rId2"/>
          <a:stretch/>
        </p:blipFill>
        <p:spPr>
          <a:xfrm>
            <a:off x="2590920" y="2786040"/>
            <a:ext cx="35812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area of land nearly surrounded by water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8" name="Picture 5" descr="http://t3.gstatic.com/images?q=tbn:ANd9GcTJM-9-emOA-0wz8JM1jzIHTx8fqgNgzBYKvTLINzpcw_4cE9Rq"/>
          <p:cNvPicPr/>
          <p:nvPr/>
        </p:nvPicPr>
        <p:blipFill>
          <a:blip r:embed="rId2"/>
          <a:stretch/>
        </p:blipFill>
        <p:spPr>
          <a:xfrm>
            <a:off x="2209680" y="2500200"/>
            <a:ext cx="4419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http://t2.gstatic.com/images?q=tbn:ANd9GcQQKhY5D_h5cdMqIBFQEChKiLWl604eWmQaK-eLN6NoXiQ8-D3R"/>
          <p:cNvPicPr/>
          <p:nvPr/>
        </p:nvPicPr>
        <p:blipFill>
          <a:blip r:embed="rId2"/>
          <a:stretch/>
        </p:blipFill>
        <p:spPr>
          <a:xfrm>
            <a:off x="1649520" y="3106800"/>
            <a:ext cx="4427280" cy="22273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2057400" y="1600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ar Between Athens and Spar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kind of Government that is run by a small group of peopl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4" name="Picture 5" descr="http://t3.gstatic.com/images?q=tbn:ANd9GcRBU0KbgNTMGeynISfTnTF54SOZnVwWF0BhSmplVc2QzI8YBBDj9w"/>
          <p:cNvPicPr/>
          <p:nvPr/>
        </p:nvPicPr>
        <p:blipFill>
          <a:blip r:embed="rId2"/>
          <a:stretch/>
        </p:blipFill>
        <p:spPr>
          <a:xfrm>
            <a:off x="2743200" y="3679920"/>
            <a:ext cx="243828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sheltered place along a coastlin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Picture 5" descr="http://t1.gstatic.com/images?q=tbn:ANd9GcRhSbQOyLwCVOsVMEWhsvGr_8Q_ILzpI4IpcQzalLHkKuye1gnc"/>
          <p:cNvPicPr/>
          <p:nvPr/>
        </p:nvPicPr>
        <p:blipFill>
          <a:blip r:embed="rId2"/>
          <a:stretch/>
        </p:blipFill>
        <p:spPr>
          <a:xfrm>
            <a:off x="1415880" y="3733920"/>
            <a:ext cx="44611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2511360" y="-55440"/>
            <a:ext cx="3743280" cy="976320"/>
          </a:xfrm>
          <a:prstGeom prst="rect">
            <a:avLst/>
          </a:prstGeom>
          <a:ln w="0">
            <a:noFill/>
          </a:ln>
        </p:spPr>
      </p:pic>
      <p:sp>
        <p:nvSpPr>
          <p:cNvPr id="85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A large hill which the Greeks built their city-states 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7" descr="http://t0.gstatic.com/images?q=tbn:ANd9GcTJPWd1B5sunt_dJ5FaxRkQgTztnswgvHF_kjlbMP6llSTfJiFa"/>
          <p:cNvPicPr/>
          <p:nvPr/>
        </p:nvPicPr>
        <p:blipFill>
          <a:blip r:embed="rId2"/>
          <a:stretch/>
        </p:blipFill>
        <p:spPr>
          <a:xfrm>
            <a:off x="1676520" y="2362320"/>
            <a:ext cx="59482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2511360" y="-55440"/>
            <a:ext cx="3743280" cy="976320"/>
          </a:xfrm>
          <a:prstGeom prst="rect">
            <a:avLst/>
          </a:prstGeom>
          <a:ln w="0">
            <a:noFill/>
          </a:ln>
        </p:spPr>
      </p:pic>
      <p:sp>
        <p:nvSpPr>
          <p:cNvPr id="8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A place where Greeks meet and conduct busin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6" descr="http://t1.gstatic.com/images?q=tbn:ANd9GcQVzz9AntUKHBf29VKnzrW93ScRQsdrooG7ZTXvf1uQO65CE4BJXw"/>
          <p:cNvPicPr/>
          <p:nvPr/>
        </p:nvPicPr>
        <p:blipFill>
          <a:blip r:embed="rId2"/>
          <a:stretch/>
        </p:blipFill>
        <p:spPr>
          <a:xfrm>
            <a:off x="1854360" y="2666880"/>
            <a:ext cx="53845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1752480" y="12193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awmaking Place where people voted on issues that helped their c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http://t0.gstatic.com/images?q=tbn:ANd9GcQ0b79Zo97uhXsjzXm8P2_gKAK-MHYRk-hL9WfiFPrlQ0ItfQeo6A"/>
          <p:cNvPicPr/>
          <p:nvPr/>
        </p:nvPicPr>
        <p:blipFill>
          <a:blip r:embed="rId2"/>
          <a:stretch/>
        </p:blipFill>
        <p:spPr>
          <a:xfrm>
            <a:off x="2209680" y="2028960"/>
            <a:ext cx="42674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person who has certain rights and resoinsiblilites to his or her country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2" descr="http://t0.gstatic.com/images?q=tbn:ANd9GcTNK2wOqvWrXj6OFPJrnehfQmjT-8XYLVV1SxTE_enG7y_rmPyr_A"/>
          <p:cNvPicPr/>
          <p:nvPr/>
        </p:nvPicPr>
        <p:blipFill>
          <a:blip r:embed="rId2"/>
          <a:stretch/>
        </p:blipFill>
        <p:spPr>
          <a:xfrm>
            <a:off x="1905120" y="2727360"/>
            <a:ext cx="52959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group of people who lived apart from Greece but kept economic ties with i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2" descr="http://t1.gstatic.com/images?q=tbn:ANd9GcStNX75n0k9yaCIH6nb0J16xtcEAFgwuj4HcGnZqzMhEfWdLDQj"/>
          <p:cNvPicPr/>
          <p:nvPr/>
        </p:nvPicPr>
        <p:blipFill>
          <a:blip r:embed="rId2"/>
          <a:stretch/>
        </p:blipFill>
        <p:spPr>
          <a:xfrm>
            <a:off x="1884240" y="3276720"/>
            <a:ext cx="5399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form of Government where people vote the make decis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63360" y="-85572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3360" y="-85572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63360" y="-85572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Im the biggest democrocy ever.bmp"/>
          <p:cNvPicPr/>
          <p:nvPr/>
        </p:nvPicPr>
        <p:blipFill>
          <a:blip r:embed="rId2"/>
          <a:stretch/>
        </p:blipFill>
        <p:spPr>
          <a:xfrm>
            <a:off x="1676520" y="2660760"/>
            <a:ext cx="58672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y hear the evidence and make decisions in a court of law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2" descr="http://t1.gstatic.com/images?q=tbn:ANd9GcQ8jHBeGWbM-4vDjmGNZjXVfqqwOmekJRCdknf5Nh7eG4BFcLwyHw"/>
          <p:cNvPicPr/>
          <p:nvPr/>
        </p:nvPicPr>
        <p:blipFill>
          <a:blip r:embed="rId2"/>
          <a:stretch/>
        </p:blipFill>
        <p:spPr>
          <a:xfrm>
            <a:off x="1600200" y="2590920"/>
            <a:ext cx="61722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overnment headed by one rul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3772080" y="3244680"/>
            <a:ext cx="16002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http://t2.gstatic.com/images?q=tbn:ANd9GcSBfsT_-4lASHs9sSLvbJD3n2_D4IcNnJBdlcGrr1DvIl6n2YZm"/>
          <p:cNvPicPr/>
          <p:nvPr/>
        </p:nvPicPr>
        <p:blipFill>
          <a:blip r:embed="rId2"/>
          <a:stretch/>
        </p:blipFill>
        <p:spPr>
          <a:xfrm>
            <a:off x="1981080" y="2500200"/>
            <a:ext cx="411480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45:07Z</dcterms:modified>
  <cp:revision>99</cp:revision>
  <dc:subject/>
  <dc:title>Ancient Greece</dc:title>
</cp:coreProperties>
</file>